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EF5-B038-4346-95D4-E1E464A9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866-929F-4C2E-A931-38EE9309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0E9-1732-492A-B696-3B7863BF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160-8C56-40FD-8CE5-44C20357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76B-26D1-4BAE-A4F3-B5F4D24E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3BA-1FE9-48B2-9EDF-BA6C25A9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5CF-1F1B-4F37-A296-05AD234D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292-F6D1-4044-98D3-1289397F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D4F-4A32-42B4-9AD8-993629E6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6C9-1AA1-44EA-9723-AD9C24BA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62D-A767-46A4-8462-5874F078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E02-F477-4A85-8041-94A7960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1DAD-EEFD-4441-9714-DD1677BEC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чение и место аквариума в эколого-педагогическ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расимов 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вариумом (от латинского слова aqua — вода) называется искусственный водоем, предназначенный для содержания и разведения водных животных и растений, а также для наблюдений за их жизнью и развит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вариум в живом уголке – это не просто емкость с водой, в которой живут рыбки. Он должен украшать помещение, привлекать внимание детей, за рыбками должно быть легко и приятно наблюдать, аквариум должен быть доступ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ом помещение его можно использовать в качестве стенки или ши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 аквариуме планируется посадить живые растения, слой грунта в нем должен быть не менее 3–5 см, а если все растения будут искусственными, достаточно положить на дно столько грунта, чтобы нормально закрепить рас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крашения аквариума, придания ему декоративного вида в него помещают различные кам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аквариум объемом более 90 л, в нем имеет смысл устанавливать наружный фильтр. В более мелких аквариумах, как правило, достаточно внутреннего фильтра. Стандартный фильтр должен прокачивать 2–3 объема аквариума в час. Однако, если в аквариуме много живых растений, достаточно 1–2 объемов в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ещение в аквариуме производится лампами накаливания и люминесцентными ламп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ы аквариумных светильников: а – с люминисцентной лампой; б – с накаливания лампой; в – комбинирова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437000"/>
            <a:ext cx="27367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5000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аквариумами рекомендуется ухаживать 1 раз в неделю. Уход включает в себя контроль за состоянием рыб и растений, очистку стекол, промывание внутреннего фильтра, чистку грунта с одновременной заменой старой воды на свежую. Еженедельно заменяется 1/4—1/6 от всего объема воды в аквариуме. Также проводится чистка элементов оформления и искусственных растений, если они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ые растения приводятся в порядок, удаляются отмершие и пожелтевшие листья, гнилые стеб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вариум в разных возрастных групп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торой группе младшего возраста в уголке природы помещают аквариум с рыбкой. Для малышей, исходя из особенностей их восприятия, надо подобрать рыбку ярко окрашенную, ведущую в течение большей части года активный образ жизни, охотно поедающую корм. Это обыкновенная золотая рыбка, золотистый и серебристый караси. Они имеют типичную форму пресноводных рыб, привлекательны по окраске, достаточно подвиж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72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редней группе в аквариуме содержатся два вида рыб, отличающихся по внешнему виду и повадкам: медлительный прудовой карась и юркие подвижные верхоплавки; разновидности золотой рыоки -- вуалехвост, телескоп и одновременно (в другом аквариуме) рыбки из местных водоемов. Различия во внешнем виде и повадках названных рыб достаточно заметны и могут быть обнаружены детьми при наблюдении. В уголке природы средней группы можно содержать тех же канаре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аршей группе в аквариумах хорошо содержать теплолюбивых живородящих и икромечущих рыб -- гуппи, меченосцев, скалярий и др. Не меньший интерес у детей вызовет и наблюдение за вьюном. Эта маленькая рыбка местных водоемов -- своеобразный барометр: перед наступлением ненастной погоды у нее повышается двигательная актив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858"/>
            </a:gs>
            <a:gs pos="5000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дготовительной группе рыбы в аквариумах (их должно быть 2--3 вида) также разнообразные: из местных водоемов (любая), а также теплолюбивые (живородящие и икромечущие). Каждая их этих групп требует особых, хотя и не очень сложных условий содерж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7:43:58Z</dcterms:created>
  <dc:creator>User</dc:creator>
  <dc:description/>
  <dc:language>en-US</dc:language>
  <cp:lastModifiedBy>User</cp:lastModifiedBy>
  <dcterms:modified xsi:type="dcterms:W3CDTF">2010-05-28T07:52:51Z</dcterms:modified>
  <cp:revision>2</cp:revision>
  <dc:subject/>
  <dc:title>Значение и место аквариума в эколого-педагогическом </dc:title>
</cp:coreProperties>
</file>